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C04-7CAA-4C6E-B9A4-52C8C6E3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35D-517A-431E-9B4A-6EA60C25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6B2-6560-41F4-B70C-95E58090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936-DB4D-415D-94C6-E6316F56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DC22-5074-4BA7-921E-6512EED3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E50A-4794-476E-BF7B-BC97075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BB7-FA5C-4BCE-A71D-4A72E8E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EC7-57FD-454B-BB76-8B28083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1AA-73F0-43D0-A347-74F4C03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8499-33A1-4BAB-BB7D-3789EAAF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2D80-21E1-4F29-8935-25E49D9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57D-78F5-443F-A841-8F27A59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5083-B8A7-471E-A26B-4B0DB6F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4CD-6963-4BE1-828F-11A707C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D1F-6042-4AC1-B2A7-5AA5DA5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1A1-19EF-46F1-93F7-3981BF4F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92ED-9760-4AE7-AB9C-EF73731D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0C95-EE20-4923-897B-3EDB90F4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D4CB-D02B-4178-A7E8-76139C6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FE67-E0AD-4450-92EE-3326627E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9840-3139-4BE8-AC1E-9A0B2A5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4814-8AFE-453B-BA00-3044FFD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3FF-2B92-483A-B576-6B3F567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C346-BE4F-491C-BBA0-51D2A83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2898-12AC-4119-AAFB-E4D55C4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F357-C148-4583-9606-92B7501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10E3-1E2F-4B60-BA6C-0CD207F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5146-33DA-4E94-8327-A197381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295F-E338-4741-A3A9-497CA555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094C-5D0E-40F5-94E0-301171B1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7693-5978-4244-AE82-A7D1370E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8429-9E16-461E-9745-4956EB3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809A-3B2F-430B-B45A-60C21D51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F0A-0A92-4BB5-9118-7C0758A1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C472-5056-4E66-9D31-8981951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3B7B-0F04-4489-A9EB-A3B9A7AD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31D0-71BF-40AE-A230-63C5A9B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72BE-E98B-486A-A36F-9A71CC5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342D-99C1-48B8-A041-FB67EC7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97E1-6109-43B6-BF85-E510AE1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CD97-EA76-4444-B902-583E8136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758B-18CC-4434-8E08-8B597A9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949A-1BE7-4A23-BBB2-175A8F80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D622-E8CD-40EC-BA64-682FEC5D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E46-E2A3-4081-B870-F7CA1F1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03B8-35AC-497B-9D80-50D9923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B75B-770B-4B68-993D-00F8238C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2F57-C4F2-49D3-A8CC-83B27A6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2A95-DDB2-45B3-88CC-C10F9B34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24D4A-7BB3-4907-930E-8713DF10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D473-AAA5-4DD4-B479-A2496E9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E497-879E-4AFA-BE58-98759BB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631E-3FF3-4D9C-8658-42F87F51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4A10-D279-4F0E-9AC9-1FFF5AE8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4D86-E840-4F9D-9A7A-29B9F6DF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E71-E9C4-4CBC-A4B6-3FDD6CAD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AF9EA-4B74-491B-84CD-2B58D79F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54105-EE79-4C26-9F34-817135E1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2ADA-E5DD-4BD9-89FE-6C418ED7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D7D68-0AF6-4978-83DE-B71CB72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98FE-4D6B-45D4-A622-4573AA4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75BE-C9CE-4947-BEA9-6A93B3E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61A91-6418-41A6-95E2-AC75C885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2089-5D81-427D-B2B1-71B4DEEE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CDE1-7053-480E-9FD4-41B7B0F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FA9F-7E17-4F29-8C43-FF6A47F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17B-ACCE-41A4-97DF-269F8D0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0E4E-0A71-4274-ADC2-126CD0C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D5B7-698B-41E3-AE0C-546D4A5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38720-8758-4DB7-B705-34CCA349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2968-BBDC-46B5-8314-F2508AFA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882CD-D5FB-4C83-9F97-99CA574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5E25C-4DCC-40F5-9E3B-9D458E3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A96E-4F41-43A1-8A15-6A90DB84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B32E1-385D-4310-B655-23BF21E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8CCD-D24E-4AC4-B0C6-F8B0DF7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8109-1A69-4E5F-96D5-F1E3FB2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918-0D93-4689-ABFD-A9C568C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E5AB-BD56-451C-871B-4CEDF4F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A999-0175-4AA6-882B-CEE8463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12BD-6A02-4725-86E7-7F5153E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86F57-A401-4A91-BB74-81507A1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4AFE-3AA7-4DD5-869C-B46B36A3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E66-8987-426A-96E5-BA48BED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4361-DFED-48E6-AEA0-1F2AD0470DA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027-2E2A-4F87-9AB5-558119C292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C379-D248-4F20-8414-532CAC2E33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2E4-7298-4921-A614-BE074F891F0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DD4F-115D-43D1-BE6F-2B8C3294405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A863-7C1A-4A44-952F-66E4A195F1E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2BE-7B9D-4833-9EA7-1F03455498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orbel"/>
              </a:rPr>
              <a:t>Ce alegi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-85680" y="-73080"/>
            <a:ext cx="8778960" cy="1536840"/>
          </a:xfrm>
          <a:prstGeom prst="rect">
            <a:avLst/>
          </a:prstGeom>
          <a:ln w="0">
            <a:noFill/>
          </a:ln>
        </p:spPr>
      </p:pic>
      <p:pic>
        <p:nvPicPr>
          <p:cNvPr id="336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water_glass.jpg"/>
          <p:cNvPicPr/>
          <p:nvPr/>
        </p:nvPicPr>
        <p:blipFill>
          <a:blip r:embed="rId3"/>
          <a:stretch/>
        </p:blipFill>
        <p:spPr>
          <a:xfrm>
            <a:off x="556416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3564000" y="2276640"/>
            <a:ext cx="201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rbel"/>
              </a:rPr>
              <a:t>Preferi Apa sau Coca Cola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9" descr="coca-cola-mobile-wallpaper.jpg"/>
          <p:cNvPicPr/>
          <p:nvPr/>
        </p:nvPicPr>
        <p:blipFill>
          <a:blip r:embed="rId4"/>
          <a:stretch/>
        </p:blipFill>
        <p:spPr>
          <a:xfrm>
            <a:off x="7885080" y="0"/>
            <a:ext cx="8794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0" y="1628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dan-blog.ro/apa-sau-coca-cola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www.ziare.com/viata-sanatoasa/sanatate/sucurile-fara-zahar-pericol-pentru-diabetici-17206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forum.softpedia.com/lofiversion/index.php/t738616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www.news20.ro/articol_Racoritoarele-_fara-zahar_-ii-baga-pe-diabetici-in-spitale_2629.htm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611280" y="5589720"/>
            <a:ext cx="828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vi: Ciobanu Iulia şi Zdrafcu Marina, clasa a XI-a 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iceul de Arte “B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laşa Doamna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399564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564000" y="1484280"/>
            <a:ext cx="558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37%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 americani mecanismul setei e atât de slab că frecvent îl confundă cu foame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ipsa apei e cauza nr.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boselii din timpul zil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upă studiile de 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Univers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atea d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Washington, 1 va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cu apă calmează foamea la aproap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100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in cazuri aflate sub dieta de slăb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79840" cy="53737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492360" y="1484280"/>
            <a:ext cx="5759640" cy="69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alte studii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ştiinţifice arată că luând de l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8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a 1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ahare cu apă pe zi poate calma semnificativ durerile de spate şi ale articulaţiilor l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80%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 persoanele pe care le au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 scădere de doar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2% de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pă di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organism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poate duc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emporar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la pierderea memori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ificultate în calculele bazice de matematică şi probleme de focalizare în faţa unei pagini imprima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3" descr="water_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499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995640" y="1700280"/>
            <a:ext cx="4824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el puţ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5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ahare de apă pe zi scade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u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45% -79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riscul de cancer l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colon, cu 79%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riscul de cancer la sân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4356000" y="4005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88c"/>
                </a:solidFill>
                <a:latin typeface="Corbel"/>
              </a:rPr>
              <a:t>Iei zilnic cantitatea necesară de apă sau ai ales s-o înlocuieşti cu sucuri</a:t>
            </a:r>
            <a:r>
              <a:rPr b="1" lang="es-VE" sz="3600" spc="-1" strike="noStrike">
                <a:solidFill>
                  <a:srgbClr val="ff388c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17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492360" y="1484280"/>
            <a:ext cx="565164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Î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multe state din SUA angajaţii de la direcţia de drumuri păstrează mereu 10 litri d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entru a elimina sângele de pe şosele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n urma unui accident rutier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curăţa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losetu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 de ajuns să se toarne conţinutul unei cutii d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şi se lasă timp de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3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minu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poi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 drumul la ap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cidul citric di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urăţă porţelanul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)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0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564000" y="1484280"/>
            <a:ext cx="558000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slăbi un şurub oxidat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pune o cârpă umezită cu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imp de câteva clipe şi şurubul va ieşi fără problem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desprinde orice fel de hârtii,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hiar gumă sau silicon, lipite pe orice suprafaţă de sticl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aplic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 aceeaşi operaţie anterioară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6724800" y="3925800"/>
            <a:ext cx="2425680" cy="2938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4" name="Content Placeholder 3" descr="coke-glass.jpg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3672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3564000" y="1557360"/>
            <a:ext cx="55800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ngredientul activ al băuturi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CocaCola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3PO4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l cărui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ph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2.8, suficient 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ntru a dizolva un cui în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4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zile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cidul fosforic este foarte dăunător pentru calciul din oase şi reprezintă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unul dintre cei mai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importanti factor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creşter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       osteoporo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zei</a:t>
            </a:r>
            <a:r>
              <a:rPr b="0" lang="es-VE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3635280" y="40053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28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780000" y="155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3564000" y="1484280"/>
            <a:ext cx="5580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Băutura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 Coca Cola co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ine şi gaz carbonic  care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, es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e un ingredient care provoacă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 “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viciu psihologic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onţine o substanţ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 ‘pote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ial vicioas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’, c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f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a,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car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 dacă se ia în cantităţi mari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de la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400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600 mg.) p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ate cauza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insomn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ta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h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cardi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d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ureri de cap şi chiar stări de nelinişte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O cutie de 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Coca Cola co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ţ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ine aproxima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tiv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 50 mg de cafe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ro-RO" sz="30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pic>
        <p:nvPicPr>
          <p:cNvPr id="332" name="Content Placeholder 3" descr="coke-glass.jpg"/>
          <p:cNvPicPr/>
          <p:nvPr/>
        </p:nvPicPr>
        <p:blipFill>
          <a:blip r:embed="rId1"/>
          <a:stretch/>
        </p:blipFill>
        <p:spPr>
          <a:xfrm>
            <a:off x="0" y="1484280"/>
            <a:ext cx="3567240" cy="5373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564000" y="1484280"/>
            <a:ext cx="558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ca Cola mai contine si zaharuri daunatoare pentru organism, ducand la obezitate, diabet, dizol-varea lenta a smaltului dintilor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Iar acelora care cred că pot rezolva problema cu un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“co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l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ight”, le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 avem o altă vest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există studii ştiinţifice care arată că consumul înlocuitorilor de zahăr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sau zahărul sintetic în cantităţi mari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provo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acă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leziuni cerebral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, p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ierderi de memori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şi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confu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zie</a:t>
            </a: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 mental</a:t>
            </a:r>
            <a:r>
              <a:rPr b="0" lang="ro-RO" sz="2800" spc="-1" strike="noStrike">
                <a:solidFill>
                  <a:srgbClr val="000000"/>
                </a:solidFill>
                <a:latin typeface="Corbe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12" descr="diet-coke-bottle"/>
          <p:cNvPicPr/>
          <p:nvPr/>
        </p:nvPicPr>
        <p:blipFill>
          <a:blip r:embed="rId2"/>
          <a:stretch/>
        </p:blipFill>
        <p:spPr>
          <a:xfrm>
            <a:off x="2627280" y="4005360"/>
            <a:ext cx="779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58:27Z</dcterms:created>
  <dc:creator>Corporate Edition</dc:creator>
  <dc:description/>
  <dc:language>en-US</dc:language>
  <cp:lastModifiedBy>Corporate Edition</cp:lastModifiedBy>
  <dcterms:modified xsi:type="dcterms:W3CDTF">2011-02-23T21:15:41Z</dcterms:modified>
  <cp:revision>14</cp:revision>
  <dc:subject/>
  <dc:title>Apă versus Cola</dc:title>
</cp:coreProperties>
</file>